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8FC1-7644-48A0-8A37-8E9198B3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974B-A42D-429C-8D67-6B716761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230C1-8456-4FD5-9263-714144CD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900C5-846A-4BA0-8333-7FFD4DAC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53C6F-3784-4DB9-82C3-6B98C7C9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8BD0E-0749-4FAC-A73E-972417C7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F4C8F-702A-4D0B-A6AF-533887E6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CC4F5-B826-429F-A07D-F14D952F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E7AA8-7E43-42E8-B261-BA7BE937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56F1F-6C5A-4E51-A398-648D3F3F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A9837-B238-45CE-A5AD-D2402D5E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1A2B4-D76C-41F6-A653-CE3ABFC0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F9D3-EF1B-4136-AF35-9B96BF9D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AB067-4F95-4E19-9F51-C4E6FCD8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70C97-A259-45E1-846F-5720B99F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2CD55-3E15-46C7-9DC8-DB961440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9E5F8-DFB5-428F-9546-C7674A2E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D96E9-D918-47CA-BFA2-97A0B465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81AEE-AE21-4F17-959B-BF0D8172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C6C89-8AF5-488C-B632-1221078C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E83B4-AA5B-4732-B68F-A5AEB045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C9086-FFE5-48EB-95F7-D5813616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C43AD-8C64-4448-ABEB-1D0F3731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6E32-E038-4B00-A10E-17C3F7EE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FD81A-A9F4-473A-AFD1-F6A9B0B8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B889D-4A8E-4C4F-B559-BD340584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F72CF-957C-46DA-9E1C-77A4F529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28FE5-149B-4229-A02F-B736D43D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F056A-40CC-42FC-BD33-FE678B11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675A2-7415-45F5-8EDF-ACB1B73F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9CE70-8561-4E37-8884-BC825B26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08736-8029-47A0-A2AC-0F2E716D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C65D0-0A8A-49E8-8A58-3B3827C0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60ECC-D9B4-44E5-BAD6-B3B65C88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D716-C64F-41A7-884B-722A2DFC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F9D7D-23E3-4187-9901-DED47C6A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C6AE1-D8F3-485C-9487-3A195AB0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F02CC-ACB5-40EB-8056-7E45EDA4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F1CA8-2C5C-4091-89D4-522FF6B4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C5463-49F5-4C59-9BF2-21134EAE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EB16E-CC41-46F3-8685-2B685387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4EC8B-D090-4DA9-8979-7E245F5C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67A98-2274-46DE-A453-19296E2D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B723A-9CC7-4211-A00A-4AA5C869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FF385-C65B-4A2A-AE56-1B1351E1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70E7-FFDE-447D-BC80-D2FFAC83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2AF59-2256-40AF-AEE8-2517F611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8D328-AE08-4C90-AE46-4240F829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343BE-B806-4D42-917D-0943E54D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E8E1C-5146-4A31-BAC0-6A48A998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30DBE-B352-4C95-875C-814F6646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1795-B34A-47DB-BA3D-4C6E2143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9477-CF7A-4208-892C-8A771938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2571-26DF-4BC2-8713-02B121A7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16A5-EE30-4840-B2EC-53F05EB7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1C95-C906-42BD-B454-A1DF0ECA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F2AB-3B1E-49A5-A41F-0644ECA4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E693-91A0-42A2-A659-AE4B77FC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546A-ED67-4346-B300-D1EE8F4D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4270-4474-4265-992E-D364D43D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56A3-BE1A-44F5-BD6F-C1FEA968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3887-2B11-4E6F-9CF2-1407F963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FDEDB-BC57-4DD0-AEFB-0706F005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018FE-A297-4B42-8F3D-328D5E18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39FB3-9B6A-4581-9739-8A3854E4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F5778-AB08-4C3D-A0F5-5E1367E0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88062-E195-418D-845C-B74928A0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1FF5-374A-4FD8-89E5-0B2277D4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60D33-2C9A-442A-A85D-AC17D34D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B4D36-F060-425B-AC46-310D6D91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27E58-D0F9-49D2-80F8-06EA9339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D861E-4C1D-4D21-9279-B7506855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4DF57-966D-4E3A-9BEE-0BDA00EB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C5AB8-3977-40A7-82A2-BE5672C1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2B8BB-BC3D-4E26-9EA0-C2A68319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E85B0-AB5C-4E05-806F-FC63BDE8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ADD3B-2EA8-4EE6-8BBD-511545F4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19975-BE81-430A-8DED-08D30B89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75A0-781C-4007-B103-6DB0F6AB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C754A-3575-47EF-A08A-628ACA56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46689-CC7D-40EE-BDA2-70731ACE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A7630-2412-4668-9B23-47B94D50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958CB-AF57-43E1-ACF8-5E01C2E5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C9037-0240-4CC2-B40B-51638AC5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197D2-1EEE-403B-8DAC-711F1091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F7949-1A64-42C0-9E27-12EB2244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3B758-C68B-47FC-956D-A8EE6777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94B86-9F0F-4685-AE05-F9674634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A2D36-62F8-4F98-AD3E-7F719504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EF6F-89DF-4CF5-BCE6-38C01971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25E09-E3D3-44C8-8C12-0908DEE1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D31F4-F619-4A5B-82C2-CD47373A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5F09E-E1C8-4226-BE0A-CC685400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2752D-50D2-44D9-A0F9-2EE0E689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62DD9-F2AC-46ED-8A25-40DA7B7F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E83F6-5D60-4556-9CE9-A8662BA4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3A0F5-FCB9-44B4-82E9-66165200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25E1D-5989-44AF-9E8D-876B9B8B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13F32-0F80-418B-AD0D-9B9B1589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BB01D-9C11-46F3-AAFE-F6AC684C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68EB-6703-483A-95AD-F1DB4A8C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B0896-5C64-4EE6-9DBF-FDEF34CB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0A4CB-5975-4EBC-918C-AAB0B4D6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34ACF-57B9-43C3-B83B-62B411B8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B26A8-0F0A-4552-926B-E469AD64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6E3E4-323D-4B0C-B632-4512D091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9A1FD-239D-4F1A-92BD-4D3CF8AA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B4924-C99D-4C04-AF72-D8F7D923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54130-23A7-4868-93E4-15DBCD80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973E6-1E66-4010-B9CD-6508E82E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0FE3D-A57A-4EAE-BA92-2A021AEC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DF7A-9475-4E31-98DF-CBA03F03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DEC87-529C-472E-97C2-A2805608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36554-C320-46E1-A50D-9F7E6D89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D6D4B-54E5-4467-94F9-8C865EBA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395C1-3BE3-42B1-820E-ECD4BFC5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DDCA4-EF5F-4FF6-9F76-8A542ADF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F14E6-3E6D-46BC-8518-BA87A883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A3F54-8CDB-4F1A-855D-98D84C5A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F8BD3-1080-49AF-830B-B2BB490D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7F89F-04A5-4815-9473-29B983F6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C50C3-D7E6-42C5-AC3C-E4E1B364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B98-2547-45B9-8EED-2F6BF94A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06EB8-7B2D-4F6F-8D25-6F47DF46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DC3B4-24F9-493B-8B6F-EFF2620C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4A0CB-2D1C-42F6-9DE7-79F1C906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D0FAD-E8D4-48AD-BCE2-83D632B7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FE840-9D6B-4FD2-A2AA-A3162271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1614E-3B81-4D1A-8517-862B4C84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51A9B-BA7C-4F3C-AF94-59FE25A7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93C54-3ED6-4EA1-8A8C-C32B1C77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3CA0E-1A13-4974-910D-94E57871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ECC9B-88E9-4BA4-BCEB-534DE8BD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B662-88FF-45EB-85C0-C6393862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392DB-CB88-45BB-A2CC-8838F00D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5D3A3-386A-44B0-9CC6-D80DB433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F24B1-AA96-42B2-890F-07EAF991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3ABD1-753D-41B9-9C3A-4691062A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3D743-08D9-4492-BC64-615CE0DC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7BB47-9CD5-4438-B938-247F1EF1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55C22-6DC8-4DC3-B5E0-237F4FB6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91EE8-4CD5-4A51-ABFD-502D4A73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2C857-381D-4151-B35A-065103F9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23443-7487-4CB8-9709-32E47675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B0EC-2996-4ED6-968F-1F6C6B66EF8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237F-57A8-405F-8F55-57FC0B1FC92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9327-7873-48E5-850A-D636CC7CDEF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F690-9EF8-47ED-8EF0-D0AC3142686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3C3C-C430-4E1A-8EEE-C77A6A94DC0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74DE-4927-47D0-9444-1CE57780285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DC23-D1C5-498F-B302-6A87CC04609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96E0-39A0-4A87-A8E1-7334D135D7A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659E-2F1F-42A3-8B57-5DB55C114C5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2BE1-B54F-4353-9719-A7B8D5E5AAE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2D2A-5079-4B68-B3E2-3DFD77DCE89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2B9B-F479-4E6C-955A-F78DB34A5B7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57 S tú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bou zrak svoj k neb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u som iba pútnik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udzinec a ho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pasiteľ mi chyst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ečnú blaženo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az sa navždy skonč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olesť, trápe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e budem chvál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Pána za vykúpenie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š Spasiteľ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em vráti sa k 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ľud svoj vziať k sebe on príd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ko nám za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úbil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š Spasiteľ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em vráti sa k 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ľud svoj vziať k sebe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príd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ko nám za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úbil s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 túžbou zrak svoj k nebu často obraci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dtiaľ v krátk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čas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sláve príde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o je moja náde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ôjho žitia s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uzr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pasit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ď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príde 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ý ten d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š Spasiteľ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em vráti sa k 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ľud svoj vziať k sebe on príd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ko nám za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úbil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š Spasiteľ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em vráti sa k 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ľud svoj vziať k sebe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príd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ko nám za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úbil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ým, čo úzkou cest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hodia deň čo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vitne nové rán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mizne smrti ti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š Pán slovo spl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ám ho cirkvi 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miluje ju vrúc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za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u sa obet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š Spasiteľ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em vráti sa k 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ľud svoj vziať k sebe on príd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ko nám za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úbil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š Spasiteľ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em vráti sa k 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ľud svoj vziať k sebe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príd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ko nám za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úbil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7:19:09Z</dcterms:modified>
  <cp:revision>24</cp:revision>
  <dc:subject/>
  <dc:title>Je veľký náš Pán, on slávy je Kráľ Nech do všetkých strán  spev vrúcnych znie chvál.</dc:title>
</cp:coreProperties>
</file>